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14D-9DE4-456C-A1EC-073AA591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13F-94A1-48E5-9D12-70DC29E4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E7AA9-FFDA-4EEC-87B9-A2FA98B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602E2-C7E2-4FBF-9A1A-E29FDC6B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742A0-8754-4632-B65D-2C604D5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44BB9-3D7B-40FD-9A60-270C3CC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718F5-9C40-4186-8254-3083032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A8D9B-FBC0-4C3A-AB62-6BFCBFD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EEF4B-EE19-4EA2-BC9D-621FBFB1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12946-29CD-474E-AD18-243E4B6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6716E-ADF1-42F5-921E-8A6442D3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BB37D-B883-4DF3-B09C-C075619B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C2E-CFE3-4E3C-9A30-BCFA83F3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E9902-1FB9-4D54-A84F-0FDA3A9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9D873-52C0-4A93-B675-C6AB9A32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A680F-F6AF-494F-A8D5-B4CFE975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61C5D-6C33-458F-A4CF-2814D98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5EF47-0F07-4ED1-9B53-D5C1E1C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BEB0F-8E2F-4323-BC1B-FB5146DC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41C23-6B24-4C40-AB43-8112164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52742-1A5E-4A1F-9524-4E588BD5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D88C9-81B9-4CCB-9AE9-975D17F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17C5E-04FE-4326-9D0D-AA4DEEAB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480-96F9-46D9-B471-2A26125C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97907-7DEF-485C-9819-3D1CFAFA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2EB53-469F-44E5-B6A2-2283B22A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92CD4-4244-4354-B9EA-8E9F47E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F5BC-1D6C-4F2A-A6C1-B8B44C85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F37A3-0668-46FD-A8EE-C39075E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762C7-2B4A-4FE0-9EA6-8FE73FFE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2C641-EBD4-4454-8FAD-90D6099F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637AD-4085-4A1B-B91E-6577D95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69AE4-9C01-4190-AB9E-19EC77B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E0B38-A5E2-4682-99DB-9953ECC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3E6-E443-4EA3-B0E7-1E3EE8D6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91CD8-9A59-40C6-AF74-A39BC77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C262-119C-4C28-B7C2-03B137E2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C3B54-BA37-42EF-8E1A-E02F9726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CE2D5-F3AF-4AE3-8B6C-3C783BC1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A153D-4948-4768-8C6F-226D2870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58C94-7BC8-4317-AB60-6186825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F0680-C1F1-4D32-937A-7A7F8952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BCE93-5D90-469F-9F58-6A1FB1B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5A5DA-A122-4F13-9063-463E77AE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26D40-A023-4326-A92F-2AB5BA5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FFF3-03A7-42BB-A177-770602D1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711C2-B495-4084-A0BF-2A0EB3D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99A22-38B4-453B-825D-34D98E1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00C89-9938-4390-BB56-3BA4DC9F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C1969-E929-4CB7-81EA-676D576D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A6E32-D92C-42EF-B67C-898EC8ED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E508A-3E2F-4575-AF9A-59B27888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DBF02-F1F7-4A03-B598-6C442267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75CBF-57C3-4207-A26F-81BD115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20055-BD21-4D81-8889-F5B5813D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32073-C841-43E2-A921-A001EA1A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692A-F0F2-43E8-9B2D-076DCD5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235E7-64FD-485F-B69A-AE8BDD9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BA9D3-E459-4004-9164-DFBB5F7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56E4B-6D16-4FAD-AA51-168BD616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9BB08-394D-402B-8C4E-F44EE8A2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3B70C-48E9-4BA9-A97E-E3E76797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2C7AA-A1EA-4650-9A58-BCBB7FD2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9A7D8-1685-4D3E-8818-C75FBD25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060AD-A794-4700-9DC9-427816FC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69819-B7D8-4529-B1C3-9DB6BF2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8AC36-C83D-47B8-9591-B38967D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13B2-5546-4ED9-A2D4-B7D65CF5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0CDC6-6D00-49F8-AE90-F5893D42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2257F-E1F8-45E3-AAA9-6CB6EFA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5B653-CEA5-46F1-8CFC-15662662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FFD11-EE9F-4F21-B106-7FB1A17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3E298-27C0-4A69-A202-AE0A0FD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554F3-8313-4506-AFE6-0A191C2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2180F-2A86-449E-9433-9B9FF2C6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81515-CF7F-47A7-8B8E-9AED9252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6F90E-6B70-417C-956A-0AA30353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FAD3C-7786-4448-A126-EB07D046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3AF-2EE4-4102-A0A3-8F077ED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B8570-3202-4148-91C1-BE3A9702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7DDB9-B9D6-4C71-B5A4-109E514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38F5A-EAC4-4414-9A09-66DF9CC7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DB453-7058-46B6-B67A-34ECDBC0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988EB-14A2-433D-8875-AD1AF429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80BDF-D27B-4070-A0E1-DA7F2F3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54950-931B-4A72-AAA9-6F243B9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5D1ED-22E2-4B5C-9873-B30C2ACE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A478E-173C-4FA7-90C2-4EABDE31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94290-CC2C-4CAA-B5D9-A79EC437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44D3-8420-4101-B8E6-4C91435A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8CA20-AAA9-4AE4-A4FB-D624CB9F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D6E1A-4E48-4246-825E-54C6BBDC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22B27-AA4E-4976-880E-C8C01627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CB9EA-A211-44B4-B38A-0C3BAFE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7659D-F304-48DC-A0C1-AC8D3B4E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1C8C3D-AB35-4444-A477-CB478EA8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C830D-B317-4D38-B247-6B1994C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D8E56-FFA0-43A3-B9F7-48AB9892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16DD8-53CA-43BB-AD2D-F8C5EE7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B8E48-DF15-4689-BD3E-CE28102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1FBD-4D0C-4990-ADB1-A2F6FC5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40966-DA15-4AF8-810C-68D3274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E259D-B612-4705-92FD-8637E3E5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9E60B1-2A05-4605-8B63-9BEACF79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827A44-34DF-4ABA-BFC1-EDCD67AE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567F0-6DE7-4F5E-B15F-B3181E84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5E1B4-1D3D-4F73-896B-D1C3971E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35E05-0131-44C2-B98F-27034C5B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35A3D-455E-483C-BB1F-0376D08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94FE5-E77B-4528-B818-CFA1A44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7229D-54D5-4C1A-B22C-C8C56FA1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BF3-A34F-402C-8931-6A9F60C2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E7F0-A5D3-41D8-B813-5927289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E06B8-BEF4-460C-9178-E2C0996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03F90-CBB4-461C-B5A0-B4DDAB4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1507B-0DF1-4200-B9B7-4A0CEE0F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71629-A192-43D9-9560-71D67E98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557FD-9593-41E1-9BDA-852543A8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BFB97-0C2D-40E7-8FA2-9D83EF65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3F93B-FC54-4D32-BD85-0DDCF85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C3E30-3089-4B08-A3E1-148674E6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D5283-4D6F-4415-ADDD-0EAEB8D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0CED77-5C5F-406E-BC55-69B06164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6A87-0842-4C89-B52C-447C8317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93170-46F4-4E15-964E-9349721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96821-280B-461C-9BBD-C4B0C23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63360-2A83-4FAB-A7C6-6AAE0C7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ACA86-8B8B-40ED-9024-0E1CA0E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4549C-D612-47AA-BAE8-3D7AA2B3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CDFB1-DD5C-447F-A7A3-13D29B4C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40320-B7E4-4A3F-AA38-5CA8FCB7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EDD6B3-0CB3-488F-9D08-0E871EED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BAF3D-8070-4026-AE2E-318751C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42C3A-6FC5-4EE0-BFDC-50EE588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8E8B-9C00-4611-B6A1-54AFE373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CF896-A001-4887-81E9-1E458E75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ABD0B-A514-40A3-866A-F141596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C9E4F-0DAB-41A2-BED7-3A7340BE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4F193-46E8-4FDD-A70C-64BDD00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9CBBE-10B7-4DD3-A6CD-10FA0FC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29F19-E230-45AE-B5E1-EC4DC9C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465C5-D257-40F8-875C-1797EBB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3DD73-D4F0-47DC-AAAD-2064A88A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6974F-F6C5-4208-BA8E-458DE9B9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E3D08-118E-45EB-AC38-82CAB0C0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A4B-CD3C-4DA4-B3B3-E66BAA5C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FEACB-47C4-4276-8F94-ECF5F0A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589E2-32B4-4996-A675-9B3E8A9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34F779-2A6C-4262-8738-DF40915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93A43-25CC-4847-AC6D-4C576E43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AD3F1-B81D-402F-B87D-513CC27A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8A2E2-96E0-48BB-986C-1A3A5A9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3D0D5-5E5E-491A-8284-12D22CB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2E9DC-F4F7-4F82-BC7E-7B129F0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368FB-5289-4DB7-AB44-8BEB1EC6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9E267-E355-4B70-90B6-6BC0E4EF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9DA5-836D-441A-99E4-8241D83B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129AB-E287-4CA7-906E-4E15818F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09DC5-97F8-4ECA-904D-8357A9FD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B7D8F-F82D-4581-8B55-0D2AD91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F7686-E871-4215-94BF-376ACD04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BFF2F-A4CE-43E4-9D4B-CB7001B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C8C87-8B6F-47B6-8259-FB446850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C3863-9C45-491E-91FC-D61E9B57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A6426-8439-4E2E-B8B3-23D7B7B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87BBB-4FB4-40D3-8CC1-C4F7338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4D874-F3D8-43DC-82AB-284CB746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DA54-915D-4B04-AF93-84BAABFB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78095-2C28-47B5-9B2F-5DC932C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FFA43-CED1-4FA8-BB58-544D7C2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9E2C9-CA2A-47C4-B0D1-02CA3651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50EF-B252-42D1-AFF8-3C31D04E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86A8-F662-45A6-A66B-94FE46C8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A565-AF88-40EE-A604-DC6C91C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DBA5-495F-496E-8478-B8CEA16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983-58F2-491B-B5AC-DC61B654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400F-89FC-48BE-BEDC-9DAB5CAF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11DD-6DFC-417C-85FD-4C70D9A1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B3D9-7C32-4E72-A3EA-8D2273B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D88C-05B4-43DA-A291-D0270D8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B234-2960-48E3-B83C-C9908CA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7F30-32BB-49DA-9FB9-4C9E405C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79EA-9C9F-46F4-8EDB-0331DD77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0A96-3D2E-43B3-A55E-C37E109C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FC8D-B969-4130-82E0-19E4D8EB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41A3-2FCD-4D35-BD1F-DCAE0BFD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B48-1A65-469B-BB79-1EDF215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CA08-D381-4197-B7D4-20CF861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5CC4-9FD0-4C27-B36A-8797903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52ED-8A59-4775-89CC-43C7F12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A73C-7800-437F-9966-7C35386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24C9-EC57-4EFB-8232-D9BBC327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DEB2-4792-46CB-9033-F4203A50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2F6D-241C-4419-A45A-12CD1B77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6C41-36B1-4D20-849D-081CB63F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9F75-2596-46DC-941E-E476343A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CB8D-C3C9-4B9F-B369-096B3100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C87-E8F7-457D-B556-DAA3A41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3053-3C5D-47C0-935D-B6E26BE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E14F-5C52-47F8-87F8-056F525F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E0A8-0BC7-4FEC-BA67-439E51E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23DD-EF1C-4DD7-BE44-FF844D07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4939-F774-4EBF-B368-B329E56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0CFB-8901-45AC-8265-FCDFABF0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4ACB-062B-4DBE-B63D-C6D4E4A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8492-CCBD-4F66-B481-B87D593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0018-6346-4026-9B85-C557AA88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EB4C-8B4B-4EC3-A2FE-2C2447E1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313-2731-472D-BF76-8A07893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3DC2-463A-43CF-BAC3-DC31BDBA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7C830-2851-4D6E-A7A3-BB599E38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925E4-FEB6-4F12-939D-48BC3CA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3D90C-E654-4613-9058-795B42C0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3D602-F5B2-4DE6-8821-B442848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39BD-CDBF-4F36-A802-118E2DD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415F-81AF-463E-AEC5-D0F6C028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3C3F5-8D4D-47EF-9A80-F10D299B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2559-733C-45B9-B190-A456F3A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3211-3FC5-4B43-9DD1-DA182B92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C04-0E18-4740-AA08-7B014651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FA47-C296-4B79-A24C-C79232CA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496D-84A8-40EB-B770-6EABC90E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8B695-1C32-4423-BF4A-09875D2D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6ED0-F337-403F-8749-1676B62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240F-241C-41FC-B9DF-AB5B203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21243-BD47-4914-A855-04628DA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E5C29-310D-40CE-BD35-8B55BC1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7EAA-F021-4BC4-8F2C-0ACE5F4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F4E8-ABC9-4B51-82AD-4508A32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B735-B9CD-4324-9A2A-2425C81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23E-2434-48F8-B94A-4FE17E5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810A1-3947-46D4-A62B-A500C212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379EE-117B-442F-85A0-5EC8F32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692A4-ED13-4778-8352-BFA85492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BBDB-4A9D-4544-AF92-4D4130AC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84E45-9135-4B92-A8F7-3859F73E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4E784-163D-474C-9E03-0E6C2D11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519E3-DF6C-429C-A2EF-7EBCFF86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05533-BFBB-4ABD-A9A9-C29BB68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0101-6334-411A-B4A0-5F96345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5923C-2CB3-4A84-8CF7-F3533DF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D05-0942-4006-B3A8-7AA41CD5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4277-F279-4F83-A71C-E841982C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2E89-AEBE-413B-9C3D-2D3B5886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807D0-E9F6-4FB8-8210-2FF8C53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176E-17BF-49DA-98B0-8FD55E7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BADB7-53C4-4465-8259-BD67DB70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553EB-C0FC-43B8-A8A0-C5FF6E2C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CF5B-E40A-432F-B3FE-A83BA8BF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38D2D-8989-4865-BC88-37E2DC64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98D1B-8F80-47F5-97C1-1D7C3A0B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213BD-2920-4845-86C6-049EAB2D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24CD-ED13-4FB1-A73E-3197603B2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2667-2604-4C1D-AF72-7430C9F17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DEAD-6DF1-4574-A729-FE0616E16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78F-C280-4598-98FA-6F3CC809F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5D93-A97A-49E6-8E20-952E494FFB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CD58-12E8-4E8C-BD5F-2F81D41608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00B4-E2A7-428F-B267-32C5626973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820-3971-4D58-9B08-37A7BB072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18BE-69AC-48BF-8AF3-9D7362DBD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B6DD-A141-4720-86C6-98977957ED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2AEC-16EC-44E1-8936-4C89C1AA6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6E2-D0D1-4610-81FC-5382D267D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0EB3-607B-4F32-A726-C6C7FCD30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D92-5852-4DFA-8AB1-616542B47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4AF-AB78-402E-8B73-8317EBB1F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988-07EF-44B3-ACF1-C6119D7E5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8F4-4B7D-459E-BE95-826F60B69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8DC-9A11-4840-8583-37D61956B2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8035-0C92-469A-9D0D-C9F4344CFD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C9BF-4648-407E-89C1-0269524B76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367F-0680-438E-B428-0C47BB06F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09F-0C3D-4AAF-8A6F-D9386FF0B3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D581-5F4A-4EB0-8879-A08B42AB5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F74-87F8-4A3B-97B5-C6DFD3804A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BCC-CEE2-49C8-8B7E-52810C9A7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869-F4D2-428A-A707-3D6F0914E0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B809-553F-472F-8ADB-AD79E3093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86AD-7158-4FDC-ABC2-9A7AF547F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56EE-F819-49C5-A05C-D4A3783E7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7692-5DEA-4855-B742-77CC85D09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F9BD-CA75-44CB-A092-49CF2078E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FDB-1B01-42BE-9F00-5FC019284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D6A1-447A-4F50-88AB-753A62ABD4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D26-ECF4-4AA2-8603-6A9A22E12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B61-E86C-4823-B591-DC3181160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D6B-E4B0-4BD5-9442-9137FDBFB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FB17-24C0-4056-97D0-1F46A132D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B40-E3FA-4191-8080-BD31F482C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51A-79D7-451E-8201-AD994E0C3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5A5E-AE96-49F8-A38D-D2844EAC0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0840" y="1847880"/>
            <a:ext cx="8813880" cy="1149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1440" y="3598920"/>
            <a:ext cx="84772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285840" y="905040"/>
            <a:ext cx="8572320" cy="5619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5651640" y="6021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9635" descr=""/>
          <p:cNvPicPr/>
          <p:nvPr/>
        </p:nvPicPr>
        <p:blipFill>
          <a:blip r:embed="rId3"/>
          <a:stretch/>
        </p:blipFill>
        <p:spPr>
          <a:xfrm>
            <a:off x="3182760" y="2517840"/>
            <a:ext cx="3476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5200" y="692280"/>
            <a:ext cx="8553600" cy="6105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588000" y="499752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012000" y="56466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700360" y="63230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724360" y="6310440"/>
            <a:ext cx="208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52320" y="128520"/>
            <a:ext cx="7839360" cy="6600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427640" y="355752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6746760" y="424980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6300720" y="494172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357960" y="566100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2124000" y="6281640"/>
            <a:ext cx="237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95200" y="1557360"/>
            <a:ext cx="8553600" cy="374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124000" y="472428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100160" y="923760"/>
            <a:ext cx="6943680" cy="5457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908000" y="590544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026040" y="5950080"/>
            <a:ext cx="935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295200" y="1338120"/>
            <a:ext cx="8553600" cy="4181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451640" y="328464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476280" y="1766880"/>
            <a:ext cx="8191440" cy="3324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236000" y="272268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236000" y="446580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81160" y="933480"/>
            <a:ext cx="8581680" cy="4991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573440" y="2836800"/>
            <a:ext cx="6462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64620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64620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646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552600" y="2671920"/>
            <a:ext cx="8038800" cy="1514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64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8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